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243-98B4-43D6-9183-6A201912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D67-CF13-4EE9-AE76-F509C337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C3B63-5C68-4866-A650-E55B40E4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304A2-505B-408E-9F47-789601A3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713CB-66E9-4D18-9C25-45EB716B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77B76-06E9-4315-A46F-5933AB23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4E0A6-8312-408C-BC2F-FD3C6084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65CEE-64A3-4C18-8C34-BC345D20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D9F89-5339-4E84-899D-721AC5D4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E50FB-7547-4F96-B8F1-50A8FBB5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11BD8-5DAB-48BA-9114-25E48CA4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C700B-AF00-457F-A7F0-7490A47E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97FE-1997-485A-8769-76E76000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B734C-40FB-40DC-B1FF-E66C2B48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E3C83-2887-405D-86C3-37A5740B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48B86-5F6B-4D5E-8363-43F0F28A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5E2F5-CFA9-4032-8A4E-B3E5BF44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0FABA-E023-4CE0-B2CF-FD3706AC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57829-053D-4DD1-BF31-8AB7BE01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F3D44-4F52-4865-A77B-831818C7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36F75-3E9E-4DD8-BC88-C4775CF4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CB16A-6864-41CD-BD3D-CEFFE5B9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1125E-00E5-4636-BA23-E6CE3922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7B6-4F7B-4F93-B444-6A490867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A0317-0262-48F0-A2E9-ADE79AD3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C0FDE-7810-4FE1-BCF3-F31489F2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66250-018E-4FA7-97D3-91C32E25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069BC-7012-4DBD-B1F8-F4D51717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691AB-DCE8-4B65-B43D-013F6E94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EC96E-648C-4F7F-B435-3D9184CD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5C0A1-29F2-419E-B883-2943C0B6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CF19D-519C-4D25-A2C5-7434D328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B9C3D-E022-4025-B22C-481C348C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EFAE3-67A6-4795-84B8-AC88C31E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061C-4E93-4CB9-BB5C-C1DE7F14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EFBA8-E747-4BC7-A119-C4C45993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849C5-7B5E-42C7-ABDA-E59CB904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A1727-1EED-4692-B0D7-829FB729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392E6-603B-4477-8565-543D5F1D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46F7E-EA19-49BE-ADEE-A0521116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98C96-C535-478A-8329-3C756BED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F7275-3CCF-4F27-988F-4F930D8B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E8A4E-4DC7-4191-9F47-42283B69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0A135-CFEB-40B8-A2E2-9C5694CE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8C98A-3B47-4CB9-9229-FECC1465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1721-CEAD-4B7A-B059-1ED2A40F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F73BB-E992-445C-ACD2-073219B8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7838E-FBEB-4428-A330-55F47B59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81D0D-D615-4498-99AD-1E0C2AFD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F96FA-99F4-4B01-B247-432AD18B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FA464-6F00-4455-9BDB-AE180BD6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7B80C-48AC-437E-BA2F-43E89BA9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10BB7-E8EA-43B9-A576-F945305E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07C07-B2C2-45B9-B640-EB5F784E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6C14B-0423-4E94-9664-92518161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B44970-FB39-4D64-B71F-989AF799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4265-5729-4E55-AB26-AE2B5789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EF8BF1-3502-4C59-8137-57CA05A9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38177-D39E-4134-918B-FB570520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757D8-BA2F-46C4-A565-BD98C6AB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2C28F-DF99-458D-B98B-568B0CB4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A03A21-8B77-4260-8A47-F5A38BD0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C8F68F-1664-4827-9C63-80628FCD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06BFD-D262-420A-8A4D-5044D248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1DC47-3D5A-4AA2-9D5F-87CB238D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C8771F-2162-43E0-BB10-298BBB8C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CDA9B2-F9D6-485F-A5C9-AB51DFC1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15FC-BF9A-4DF1-9CB5-29EECAB7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775FB-9798-42E0-B83A-7C96C6BF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D28583-7DC9-49F2-98C1-1E65828C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CE48B7-9C7E-4E5E-BCCD-7E79D902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28E15-2EEE-4677-A5E1-6D30B8C7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AE485B-670B-465B-94F5-8CAEFD94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0428D-9E49-43A5-89EE-DAE31FD8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FF26F3-0EB1-40C4-97E7-8090966D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A0C003-536B-4E02-ADBD-6F3A26B6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875CA0-AEF1-4604-84AB-B8975675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45082-ABAB-447C-8CF0-C2C53B28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D52B-27E6-4CA2-B8C8-D3AFEFF1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EEE6F1-95A6-455B-B1CE-4799A549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A769E5-51B4-450B-BC9B-4FA198C8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09854-012E-43E4-B059-9C663330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FB5DFC-BC36-4A53-B1CE-080A824E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ABAAA7-F7A3-42B4-8B14-FBA63AB8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AB6FCB-90DF-4022-86BB-A0AF8490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35E4E9-DC51-4931-BACF-894E873A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EB759D-39CD-4B74-B854-6F9C42B1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1C79D4-D85E-4486-850A-EA42CC39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01B207-BB05-4B16-9261-0C2AEFBF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D426-6FFE-4EEE-8510-8E8E8F11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60997E-DE52-470A-A220-9A4DB849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BB0527-869E-4FD9-ACEF-474D4538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E34752-A013-4524-A351-7D006C1F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5C90DD-F29F-4A46-95CC-AA53BE1A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83B509-EA5B-49D6-8923-AA914E9F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EC2F05-36D9-4B32-9ACD-99A0F3A7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0B1567-CA92-4E7E-9832-6EC743A5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2BA3E2-F142-4152-9941-50DC1BAE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FF0073-04E4-4CA6-B38E-7362054B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631BB3-0A5E-4238-BDC1-2AB372C0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8E9E-2E33-4160-A58E-1324FD43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A88DCC-3B8E-4E75-9CDE-20731AE6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0A5B0C-9746-4401-92DA-52AE50D9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7D539A-1302-4C8C-B745-A9EE2477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0B4930-0811-4179-AB60-042A688E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53F7EF-49CB-4A7B-AC19-0AE49990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67D338-2D1F-4DFF-AE88-C38D906F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0EC9FE-E60B-4130-AE92-D496B61C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9EC63F-09A0-49B0-A8BC-0CA4EF7B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FED62D-4C62-4911-87D1-ED96A26B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269256-C26D-47EA-887C-99B707EE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4F3C-2079-4813-BC33-8C05A9B9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4C9A-2294-47FF-894B-5FAF2E1A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4059F2-A5B1-4ADF-9B98-6DC08DD5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E9C1CE-408C-414B-B361-FEFE026B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386F8A-241F-4D89-BC81-E4E5ACF4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8E225A-52DA-4946-831F-3F49854C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956102-D176-41DD-B270-6A99F2C0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406C8F-206D-4276-AA2E-7AF51FC9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6AC0F5-DA6B-4F44-B94F-30E78F76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96224C-680D-4E9B-AF1D-55EA897C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80972C-AE91-49B0-A99C-F2825708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DA075F-21C8-406C-B91F-A4F52B27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97FD-7EE3-4B20-B8E5-B064CFC9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4EE1DB-9167-40E2-B802-71260086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76131E-4EB9-4151-881E-3FD1D1C8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6CF2A8-B878-41DD-A32E-A2D9DE6C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C35E3A-60E3-43DA-8B17-6555CD71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EEA1B4-8ED3-49C7-9A03-D3B7E0FC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C99CC2-D8A8-4D4B-8FD4-5C51E6CC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3D8695-6176-4AB2-B76B-B11D98F8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B04EDC-75EB-4FDA-A28D-08828DF3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ACACDB-B4BF-4B8D-A2E0-B940EBED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C9292D-F773-4F5D-B73A-AD592D49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2B46-534E-4548-8059-C3C1EE8C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43754B-1EF4-4CBF-8CDE-6BE1AE2F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86E40D-CB95-4EC4-BD3D-06E126BA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B195DF-E255-46DA-92AE-1CE19C0D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D6CC64-E0A7-4364-96B1-CB68BF57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2CB40E-32E8-425A-97C1-C74ACFDD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FFA646-8DBD-4D86-AEAF-B1728CEA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BDA11C-086C-487A-BB9D-2AB1E475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9E47DB-8355-4540-9F56-32754DC8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68DE1C-5E48-42AE-9487-D3662BE2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CFD5BD-4227-40DB-AD97-36301ABA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06A6-9AE7-42F2-8F59-0CFA28AB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A204D7-F05B-459E-8079-C85176CE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FA31FD-21FC-4164-B1C5-1A9776E3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B3CB7E-473A-4209-A5C8-CEF67784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C6AF59-F672-4B88-9095-C025F0AC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1BA5D-D344-46C5-8B37-45EEE6D0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2ACF72-1A55-41B0-8FE2-907833DD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C90BD2-6AC7-44D0-ADE1-ECD400B7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0CCA12-F79B-4DB3-9ED2-34F31A40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55C255-4DF6-4DB5-A089-C5CC39AB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F52EC9-3DC0-4ABB-AF36-8D6C2736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28C5-9C62-4047-9828-2FC4CFED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A3330F-1CD1-47D6-B8AE-1822B462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3AD37F-6EF3-42E9-B1DB-E58E4451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5F579D-6F87-4080-9D69-90895F59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95838D-6C92-4841-A801-0289533C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868B6A-FBB7-4536-B91C-D74C6E86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55DF12-6C8D-43F2-A42D-19F392DF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0FD677-D6B6-42B0-AABE-5B847A0C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2BA1C4-962A-4A92-A4E1-9FB0F8E4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613627-59CE-460F-8C12-488CA613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9C65B4-ABCE-41E7-8A9B-6854F618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93D5E-CFAD-4DAC-B73D-FBD09942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B1C558-1D82-436C-8312-0302EF72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98821F-30E8-404A-811F-4C678A9E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948D02-A0E7-4C33-BCA1-D1DCAB79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57055A-9E7A-4F57-8991-E6387B86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60B224-15DC-48EE-996A-4142EEE0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4083D8-F8DB-4CF1-97FC-C472637E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3B94EA-BF0E-432B-9D07-DE67D809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57CA32-FA7C-4FC6-BE20-343BBA50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7E4104-BC21-44F4-827D-0480CDF8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637C9D-09FB-47B1-A108-873B9134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D8AB1-AD7E-4B29-8260-52F1DC49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7D6974-89F1-4DC9-A4DE-FDC654C3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240BA5-27F8-4203-8328-5D0176B1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309CF5-E3F5-4D3F-895E-E9CC86FD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D3CBD1-52CF-4FB1-8F3D-0FB93CB0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DB1B51-FE57-4881-945C-F37D0AB8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495A4E-AF5A-4054-9EA7-AB8D958E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62C088-E28E-4923-869E-3AAF416B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761AA3-B229-4705-940F-953A4956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9FB6BB-D674-403F-967E-8BBC9CF8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370963-296E-4310-9802-4BFC44D3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F8A40-A596-4F24-8D99-D847C603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0229D1-86EA-4343-B8F6-267A96A8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21244A-A0FB-45E2-A387-4B102E94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45FD5E-0385-4E66-B0F9-ADA6CBDE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A10AD6-D703-4323-9CA5-7CB43883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446EEA-0223-438D-B0A7-DAC24061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2B3E49-025E-42AB-A637-00790667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E46A76-E253-494C-AF07-4AAD5380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08F03-E736-49FF-8D7C-2222F40E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2C0A4-4AC2-4C9D-9269-771D2869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9AB-10B0-4A89-9E57-986B4F80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ADA22-F055-4AFE-81C1-C83E8687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75999-B43B-4487-95AF-37F6A647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BDE37-045C-4042-A8D0-48FF1A92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9D824-AA42-42B0-A575-FCADAD7B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D514E-81FC-46F2-961C-938A4633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8B395-C7DA-4A07-B727-BD0B9BC9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26FC5-0973-44C7-82E1-DC5B951E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D1E12-2899-48D8-83F5-DBB09FBF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1EBDB-EB23-4692-8283-A9DAA96B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80486-8378-40FF-BE20-DD4639B3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CDB3-0FDA-45D6-8F18-B84907A2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B4D7D-82AE-4ED8-89E2-AE4FDD64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30B8D-6792-43B7-B8A7-829FAF9B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0E3B0-85FA-431C-A7CE-522C9BA2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3D1EE-A977-4031-9264-67664230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88FBD-8041-4637-B07F-20083408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8C755-51D9-4210-9AFA-F9192D60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52712-1556-496E-B0A2-45CEE609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EE5BC-0FD8-4100-A06C-EC9C5E43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95859-A7E5-4CA4-A8DF-50EC4900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FE4EE-5C2B-4D1B-BA21-6F8ED1D5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F842-DCC6-4427-A6B4-C147F9ED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94526-09EC-4167-AB2B-49D89DE0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E548A-E378-47F6-999A-684D4627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E51F9-8412-4D84-B993-2944BC4F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634E3-57C4-4847-88D9-6E917934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FFCF0-4032-4FBB-A6F0-38E027D4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E608B-EF2F-4C35-96C2-E6144D6B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ED4F0-0073-4796-A954-8893397A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726DE-CCEB-40DA-9517-0BA9B9EE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37CC7-DF3E-4884-BE03-8E53D4FF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BC294-0447-47EA-A488-39571E46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E3D-6B58-4A33-B71D-AAC74EBD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F18E7-BA18-4306-AFD2-767F33D3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4D0B0-0D26-42BC-B7DD-34CA7950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0AF18-4324-4AE4-974A-E7FE737D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43644-E196-497F-B985-901D59BA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BF34F-7BD7-482E-8A7B-4157635D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9E43C-D6C7-4FD2-BC11-277369F4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07AC7-DF3B-470D-93E8-64BE6EA3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244D5-40B2-4A74-AFA2-66CA66FF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5FDDD-0386-4F84-9643-1F214190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DDC70-151C-46F6-B699-C18DFBC7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56D9-7875-40B8-9C26-A7B17C41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196D5-2EE7-46A7-A904-3745B762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B3EFD-679A-40CC-A817-508FBBFB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6DE75-233B-4646-92B9-2427B309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6EE6F-5F74-4792-82FB-6015BE12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D96E0-8FDA-46E9-9AE7-3FD5D644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EFC88-A063-46F2-99D7-22383299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9A137-86B6-4FA7-9828-29AA9A8C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535F0-13C5-4797-8C59-20232C62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3C7CC-C153-4B87-B310-B5837DCC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A6C05-5B1B-4FC2-A54F-78B6B74B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6D4C-A58F-4469-9F38-E0B7D0A6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45C3F-9E3B-4C5D-B017-52974FE5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54833-C4CE-4085-B399-D03586F7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EB9A3-C991-4476-9D73-EAA19E55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BD23F-2237-42FA-98F5-A8E5A138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C0ED5-4249-4D76-872A-91FF2630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1F3A4-4F9A-4C42-B750-885215A1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17354-64F0-49BE-A8B2-CB3CA81A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1DA75-A1D6-4BBF-8683-4A3831F3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9BF29-26E7-4CA4-821B-740A7A5C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71FAD-CD83-42BC-BF75-364F4C01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3C0D-94DA-490D-B05A-5BA0F20A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297A7-CA13-4ABB-8EAB-14BC4525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3A5D9-BF85-4339-B819-FEA0573D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7F2B8-771A-442C-B4AC-1FA1A002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51332-6632-4D02-8331-DCC261BB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8BFD2-8864-4CC9-9A3E-1BF59F8E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B047C-009C-41DE-9F72-E76A40FD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E82D6-9B17-4B02-8327-BDE80BF5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ADC9C-E778-44E0-B557-CB34D298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24630-475B-4CA4-91D2-F8EB2836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E50F9-F6EE-401B-9332-C361F752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8E35-0AFE-4441-B77B-8BD4818AD9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9DFF-8D27-40C0-B444-C3DE26C2B4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3A40-FFB6-462A-AB9C-4C53060062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D25A-2C0D-4C1A-AE7B-37A2C3D66E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0649-55C4-4812-94E2-E17D86B335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4948-EF0D-417A-B59A-A00A5607E7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505E-B32D-4D9D-B740-89E68168D0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2883-4041-46B4-8D96-175750AEFB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5A7E-60F3-479F-A2EA-595B9112D1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54D5-2946-4E97-9A43-9DF6E3163B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C7DA-7997-4C38-AAA0-E2927E84D5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DA71-21DB-400A-87A1-85E1171F08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BFBE-A99C-479B-A33D-B02F6ED82B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E60B-561C-485C-A6B7-85DAA28F5E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1812-9B4F-47FE-A3F6-CD1B9E9BF2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FBBA-F296-4123-B41A-3DB51C18E7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30BA-D678-4ADE-B6DA-48A28162F0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54E7-0D35-4053-B173-6427DCF78B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D0FA-92C7-46A9-B28F-E066B012E7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A495-7CF2-49D6-855E-A7E4D4889E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157C-522E-43E1-817E-526B57F9E3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4C2A-5DB9-4259-9ECB-9DE605784D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30BA-C073-4648-8FA5-300C90F81D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F467-064D-4D58-82E9-42DA1603A0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BE37-6626-45BE-9FD7-613A04D914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732E-9BCF-4538-804F-16E58F3924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DF64-900C-41D0-B7B2-24CE64B97B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70F3-709F-4399-BAF8-3552AAFBA8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C9B2-BAA0-4499-B340-5728C045FF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F0FF-1B5C-4F75-9811-6324C7E991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324B-3F9F-4DFD-89C0-BB94F64E85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83E4-AB1C-4CC0-A3D3-F2282B2BB5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2053-87F3-4BF9-9859-CBE9D475CF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6A13-56D6-4464-A387-BBC9BA5EAD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55C0-5D3E-46BB-BB91-2CDF1773E4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8CC4-F3B7-42C0-8B0D-E494C54D0A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EB59-A382-4E86-8FC2-337335D81E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99D9-8C87-4365-9FE4-4AA426426E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38C8-475C-44BB-AABD-B857A420E9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D4A2-8DF6-4CC4-80B9-3AA162D7B7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B7EF-B58C-438E-88F7-392A1581CD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C516-4C2E-4E98-9833-C63BB4248E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890640" y="2933640"/>
            <a:ext cx="7362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22400" y="806400"/>
            <a:ext cx="1742760" cy="41904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271440" y="1290600"/>
            <a:ext cx="8599680" cy="534204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539640" y="134136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539640" y="256536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539640" y="378936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539640" y="46530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611280" y="551664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114480" y="1995480"/>
            <a:ext cx="8915400" cy="28670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1042920" y="2460600"/>
            <a:ext cx="649440" cy="2905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6084720" y="2449440"/>
            <a:ext cx="1295640" cy="2905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1230480" y="3284640"/>
            <a:ext cx="865080" cy="290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755640" y="3716280"/>
            <a:ext cx="1079640" cy="290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1258920" y="4130640"/>
            <a:ext cx="865080" cy="2905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7"/>
          <a:stretch/>
        </p:blipFill>
        <p:spPr>
          <a:xfrm>
            <a:off x="611280" y="4546440"/>
            <a:ext cx="8650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995400" y="1724040"/>
            <a:ext cx="7153200" cy="34099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4284720" y="3068640"/>
            <a:ext cx="574560" cy="290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4932360" y="3500280"/>
            <a:ext cx="574560" cy="290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3203640" y="3914640"/>
            <a:ext cx="647640" cy="290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6300720" y="4321080"/>
            <a:ext cx="647640" cy="2905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4859280" y="4743360"/>
            <a:ext cx="64764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95400" y="1143000"/>
            <a:ext cx="8953200" cy="45720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2"/>
          <a:stretch/>
        </p:blipFill>
        <p:spPr>
          <a:xfrm>
            <a:off x="1042920" y="1963800"/>
            <a:ext cx="865080" cy="2905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2843280" y="1979640"/>
            <a:ext cx="1368360" cy="2905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4"/>
          <a:stretch/>
        </p:blipFill>
        <p:spPr>
          <a:xfrm>
            <a:off x="1116000" y="2800440"/>
            <a:ext cx="1943280" cy="2905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5"/>
          <a:stretch/>
        </p:blipFill>
        <p:spPr>
          <a:xfrm>
            <a:off x="755640" y="3635280"/>
            <a:ext cx="2087640" cy="290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6"/>
          <a:stretch/>
        </p:blipFill>
        <p:spPr>
          <a:xfrm>
            <a:off x="2268360" y="4479840"/>
            <a:ext cx="3024360" cy="2905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7"/>
          <a:stretch/>
        </p:blipFill>
        <p:spPr>
          <a:xfrm>
            <a:off x="3851280" y="5319720"/>
            <a:ext cx="865080" cy="2905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8"/>
          <a:stretch/>
        </p:blipFill>
        <p:spPr>
          <a:xfrm>
            <a:off x="5575320" y="5300640"/>
            <a:ext cx="8650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48:16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